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7.png" ContentType="image/png"/>
  <Override PartName="/ppt/media/drumroll.wav" ContentType="audio/x-wav"/>
  <Override PartName="/ppt/media/image1.png" ContentType="image/png"/>
  <Override PartName="/ppt/media/image8.png" ContentType="image/png"/>
  <Override PartName="/ppt/media/image2.wmf" ContentType="image/x-wmf"/>
  <Override PartName="/ppt/media/image3.png" ContentType="image/png"/>
  <Override PartName="/ppt/media/chimes.wav" ContentType="audio/x-wav"/>
  <Override PartName="/ppt/media/clap.wav" ContentType="audio/x-wav"/>
  <Override PartName="/ppt/media/image4.wmf" ContentType="image/x-wmf"/>
  <Override PartName="/ppt/media/applause.wav" ContentType="audio/x-wav"/>
  <Override PartName="/ppt/media/glass.wav" ContentType="audio/x-wav"/>
  <Override PartName="/ppt/media/image5.wmf" ContentType="image/x-wmf"/>
  <Override PartName="/ppt/media/explode.wav" ContentType="audio/x-wav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0BD-9673-4A9B-A730-2254EC00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1FB-B394-484F-ABB1-AEEF15F4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8C2-DA09-4E4D-9485-BA077DC7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DA5-9663-4902-B0F7-54BDA7C2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C1E-E383-4FE3-868D-01C7AEAC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F5C2-D316-4C23-8AC2-57C96E55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3EB-C8CF-4E7A-B998-E532EE18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806-5D87-44D8-8A40-5DAECEB8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AA8-1445-409B-8027-F25D91F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79E-4F3A-4313-9D74-28110A0A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211-252D-4922-AE13-EBA6135F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099-3F29-4700-BD55-D0CC1EC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78F5-6671-4AE1-AFE7-309E9CD3B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83808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</a:rPr>
              <a:t>What am I going to do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133720"/>
            <a:ext cx="70106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to ask the way to eight places in French and understand direc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800000"/>
                </a:solidFill>
                <a:latin typeface="Times New Roman"/>
              </a:rPr>
              <a:t>Learn why certain words are pronounced in a particular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38280" y="6094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6002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25146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35053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5748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82880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195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380988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752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4724280" y="990720"/>
          <a:ext cx="190512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1905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602080" y="990720"/>
            <a:ext cx="196992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6705720" y="1143000"/>
          <a:ext cx="18288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1143000"/>
                    <a:ext cx="1828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43200" y="3429000"/>
          <a:ext cx="18288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2120" y="3429000"/>
          <a:ext cx="182880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4290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724280" y="34290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6781680" y="34290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5029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590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029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05320" y="1295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inéma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3716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2590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ollège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144756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1447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505320" y="3886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café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5029200"/>
          <a:ext cx="14479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505320" y="54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 parc,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0200" y="1066680"/>
          <a:ext cx="1600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00200" y="2362320"/>
          <a:ext cx="15238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362320"/>
                    <a:ext cx="1523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447920" y="36576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523880" y="4876920"/>
            <a:ext cx="1676520" cy="1066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1371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iscin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438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gar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962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boulangeri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105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 poste,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 s’il vous plaî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657600" y="685800"/>
            <a:ext cx="1828800" cy="3124080"/>
          </a:xfrm>
          <a:prstGeom prst="upArrow">
            <a:avLst>
              <a:gd name="adj1" fmla="val 50000"/>
              <a:gd name="adj2" fmla="val 427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Allez tout dro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371600"/>
            <a:ext cx="4267440" cy="2057400"/>
          </a:xfrm>
          <a:prstGeom prst="leftArrow">
            <a:avLst>
              <a:gd name="adj1" fmla="val 50000"/>
              <a:gd name="adj2" fmla="val 518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19112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gauc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5120" y="44197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urnez à droi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24160" y="1295280"/>
            <a:ext cx="4495680" cy="2133720"/>
          </a:xfrm>
          <a:prstGeom prst="rightArrow">
            <a:avLst>
              <a:gd name="adj1" fmla="val 50000"/>
              <a:gd name="adj2" fmla="val 526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167652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18288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1371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1981080" y="4876920"/>
          <a:ext cx="1447920" cy="11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876920"/>
                    <a:ext cx="1447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0" y="609480"/>
            <a:ext cx="1905120" cy="1067040"/>
          </a:xfrm>
          <a:prstGeom prst="rightArrow">
            <a:avLst>
              <a:gd name="adj1" fmla="val 50000"/>
              <a:gd name="adj2" fmla="val 4463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981080"/>
            <a:ext cx="990720" cy="1600200"/>
          </a:xfrm>
          <a:prstGeom prst="upArrow">
            <a:avLst>
              <a:gd name="adj1" fmla="val 50000"/>
              <a:gd name="adj2" fmla="val 4038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362320" y="533520"/>
          <a:ext cx="14475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33520"/>
                    <a:ext cx="1447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362320" y="2057400"/>
          <a:ext cx="152388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05740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362320" y="3657600"/>
            <a:ext cx="1371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286000" y="5105520"/>
          <a:ext cx="1600200" cy="11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510552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609480"/>
            <a:ext cx="1676520" cy="990720"/>
          </a:xfrm>
          <a:prstGeom prst="leftArrow">
            <a:avLst>
              <a:gd name="adj1" fmla="val 50000"/>
              <a:gd name="adj2" fmla="val 423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1905120"/>
            <a:ext cx="1066680" cy="1523880"/>
          </a:xfrm>
          <a:prstGeom prst="upArrow">
            <a:avLst>
              <a:gd name="adj1" fmla="val 50000"/>
              <a:gd name="adj2" fmla="val 3571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6576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105520"/>
            <a:ext cx="1676520" cy="990360"/>
          </a:xfrm>
          <a:prstGeom prst="leftArrow">
            <a:avLst>
              <a:gd name="adj1" fmla="val 50000"/>
              <a:gd name="adj2" fmla="val 4232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429000"/>
            <a:ext cx="1067040" cy="1523880"/>
          </a:xfrm>
          <a:prstGeom prst="upArrow">
            <a:avLst>
              <a:gd name="adj1" fmla="val 50000"/>
              <a:gd name="adj2" fmla="val 3570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502920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3440" y="533520"/>
            <a:ext cx="467712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46483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Le ciné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33720" y="53352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.?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Wher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76520"/>
            <a:ext cx="3504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caf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e par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674720"/>
            <a:ext cx="3276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Où es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boulanger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 pos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28800" y="2971800"/>
            <a:ext cx="1066680" cy="1828800"/>
          </a:xfrm>
          <a:prstGeom prst="upArrow">
            <a:avLst>
              <a:gd name="adj1" fmla="val 50000"/>
              <a:gd name="adj2" fmla="val 4286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iné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4290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llez tout dro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133720" y="1447920"/>
          <a:ext cx="15238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15238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05120" y="3429000"/>
            <a:ext cx="1676160" cy="990720"/>
          </a:xfrm>
          <a:prstGeom prst="leftArrow">
            <a:avLst>
              <a:gd name="adj1" fmla="val 50000"/>
              <a:gd name="adj2" fmla="val 4229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a g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gau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057400" y="1447920"/>
          <a:ext cx="14479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14479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3429000"/>
            <a:ext cx="1904760" cy="1066680"/>
          </a:xfrm>
          <a:prstGeom prst="rightArrow">
            <a:avLst>
              <a:gd name="adj1" fmla="val 50000"/>
              <a:gd name="adj2" fmla="val 4464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752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Times New Roman"/>
              </a:rPr>
              <a:t>Où e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le caf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657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urnez à droi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2286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inéma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iné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llez tout droit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58128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gar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g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droite et tournez à gau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 Au revo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76212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onsi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e collèg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e collè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urnez à gauche et allez tout dro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3429000"/>
            <a:ext cx="7619760" cy="2253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usez – moi, mad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ù est la piscine, s’il vous plaî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a pisc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e ne sais 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r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ounds like m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or pl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</a:rPr>
              <a:t>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676520"/>
            <a:ext cx="6248160" cy="4909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f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ur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erm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u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00200" y="53352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ench Pronunciation – Get it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Ça se prononce 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éb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um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1905120"/>
            <a:ext cx="3276720" cy="3796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épri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ré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é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mb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371600"/>
            <a:ext cx="4952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RAVO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8" dur="1" fill="hold"/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38280" y="380880"/>
          <a:ext cx="426744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42674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146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af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73480" y="380880"/>
            <a:ext cx="439560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44956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collè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828800" y="380880"/>
          <a:ext cx="54864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0880"/>
                    <a:ext cx="5486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e p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36680" y="380880"/>
          <a:ext cx="46706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6680" y="380880"/>
                    <a:ext cx="46706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52480" y="464832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is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387520" y="609480"/>
          <a:ext cx="43671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609480"/>
                    <a:ext cx="4367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752480" y="434340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g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02920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487692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pos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81080" y="561960"/>
            <a:ext cx="4953240" cy="340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57480" y="41148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La boulanger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18:17:47Z</dcterms:created>
  <dc:creator>Phil. Drabble</dc:creator>
  <dc:description/>
  <dc:language>en-US</dc:language>
  <cp:lastModifiedBy>Ministry of Education</cp:lastModifiedBy>
  <dcterms:modified xsi:type="dcterms:W3CDTF">2009-05-18T22:24:53Z</dcterms:modified>
  <cp:revision>26</cp:revision>
  <dc:subject/>
  <dc:title>PowerPoint Presentation</dc:title>
</cp:coreProperties>
</file>